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9CF-1FA8-4B96-8AA8-61A15AFC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269-F1B1-41E5-9492-32A1558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BA4-BFAE-4A36-B262-D527C92C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F4B-1B48-4E86-96B8-AFF185E4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52A-AA9B-4D8B-A1D5-B2524DF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F76-21B9-41D6-BA4B-2A3F8074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C6C-A6C7-4847-9B23-0E266CCD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F65-CC6C-44FC-B032-F223684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D14-835D-4D4B-97D6-98FD9B33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76-62B9-4BDF-BC2D-BAEE330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02B-D8D4-497B-A822-CCDCC56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30E-A8CE-446D-A283-36946F3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305-2362-4D1D-BE4F-598A55DFA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792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                         ABINGTON                                       AVONDALE                              AVONDALE                                   AVONDALE  75TH                   BLACKWOOD  VICTORIA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WOOD  VICTORIA               BLACKWOOD  VICTORIA       BLACKWOOD  VICTORIA  100TH               BLANTYRE                                     BLANTYRE                                   BLANTY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                                   BLANTYRE  100TH                            BLANTYRE  100TH                      BLANTYRE  125TH                     BLANTYRE  M.W.                       BLANTYRE  M.W.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NTYRE  M.W.                               BLANTYRE  M.W.                                   BOTHWELL                                   BOTHWELL                                   BOTHWELL                                BOTHW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00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12430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13240" y="404640"/>
            <a:ext cx="1189080" cy="109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52880" y="18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465960" y="18900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05600" y="333360"/>
            <a:ext cx="12798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520" y="1989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657600" y="206064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097600" y="2060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048520" y="206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2216160" y="342900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800520" y="3357720"/>
            <a:ext cx="1060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40160" y="3645000"/>
            <a:ext cx="109728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6608880" y="378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48520" y="386064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60520" y="53006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2000160" y="4941720"/>
            <a:ext cx="1500120" cy="144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3873600" y="537372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313240" y="544500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6753240" y="544500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8193240" y="537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704880" y="620640"/>
            <a:ext cx="874800" cy="85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2073240" y="1773360"/>
            <a:ext cx="12002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3645000"/>
            <a:ext cx="116208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6608880" y="2060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9:54:24Z</dcterms:created>
  <dc:creator>JOHN YOUNG</dc:creator>
  <dc:description/>
  <dc:language>en-US</dc:language>
  <cp:lastModifiedBy>JY</cp:lastModifiedBy>
  <cp:lastPrinted>1999-12-15T20:27:10Z</cp:lastPrinted>
  <dcterms:modified xsi:type="dcterms:W3CDTF">2007-11-07T09:21:02Z</dcterms:modified>
  <cp:revision>24</cp:revision>
  <dc:subject/>
  <dc:title>No Slide Title</dc:title>
</cp:coreProperties>
</file>